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755-D77C-4534-9CE9-1AC51C6D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E19-A957-46C9-AFC0-E86E23A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40D-D6D5-4A3B-B33F-D3971EA5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546-273F-4667-A59A-6D9495A2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A787-CEAF-4F8E-8B95-0842EC56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2559-13CD-4D25-B42B-22492F55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1DFD-F68D-4222-942B-79089DA3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090B-0619-4EE5-99BD-47F3F5F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B88F-ADC1-46D1-8239-68F85BD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14DB-A7E5-40B6-9F94-0BC67B76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CF1-2C92-44AD-BE29-E613A2F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B5F-11BA-4960-86B2-C1799913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03C2-AE2A-4375-83DD-D26AFA1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C519-E1C5-46BB-B9A1-A1668C8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FB60-D4D4-4A7D-886D-2598BA43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90F2-F09C-4914-87A7-1EA52298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A814-DA88-4FC2-AEBF-B7A1507D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423A-4802-46A8-866E-A570D129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395D-A7C8-44BD-83AC-F6C8B05E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F4DB-6E36-4F59-8AA4-6189755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AE3F-E847-4EE1-80A5-866106D1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67E5-9E21-4F3F-BF77-8989A51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5F0-57C6-455B-B84E-55D8C8EB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BB93-50FD-493C-91D7-8983D3A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525C-EE7A-4CD8-9BCB-5D31787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E5D08-0BF8-485E-AF3A-6712491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BEF1-B596-48F3-8D57-33F4666D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7257-1673-4BCF-A7A2-625DB8D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627A-0A00-400C-8181-9D116FBD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D7BB-3088-4915-97D5-FF5D1150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01E1-8387-4131-8A1C-AF6C7EE7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E12B-10FD-47EC-8C2B-34DBB2ED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B41C-423B-4F4D-9466-70335E0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F3B-E84A-4072-8732-494B9AE2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9F04-A7A1-4FF0-9FA1-2613A416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CA00-D970-4408-BC30-8863D4D0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E498F-5285-4FFB-A5F9-A73F70D0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1EFE-3FE9-45C6-BB70-9C53A5C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BB03-2934-4BF7-9F5A-6A6F58E8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81DD-0579-49D9-B1EF-67A752E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CFA2-9A9E-42DA-A364-9E255439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E7A8-697B-4131-9816-6DDB8894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B895-76BE-45B7-A5F7-D25F5CFB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F51-C1B8-44F8-A893-957E26F3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264-B981-4EED-A77E-A414FC8E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2C1-C5C5-4E58-80BB-FBBA7EE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F63-FC3A-4A1B-94EC-A76DBA8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37A-4AED-4BB3-AD87-D86688C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F17D-0C90-4D88-A6D2-D7F75A3731F4}" type="slidenum"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586E-24A7-4523-B73C-F8CB38B31ECE}" type="slidenum"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5E2D-0E76-4922-9C4A-E1317133F6AC}" type="slidenum"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8103-7C4F-4EB8-A0C9-D7AF9A209352}" type="slidenum"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pañol 2 Capítulo 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- ¿Cuál es tu dirección de email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- ¿Cuál es tu número de teléfono o celular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- ¿Tienes un fax? ¿Cuándo lo usas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- ¿Cuál es tu motor de búsqueda favorit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- ¿Te gusta surfear la internet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- ¿Cuántas horas usas la computadora para la internet?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 ¿Cuántas minutos usas el celular pa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habla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cada mes?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- ¿Cuántos mensajes/text tienes en un mes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- ¿Cuántas horas estás en el cuarto de charla/facebook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- En tu opinion, ¿crees que muchas personas usan el celular o la computadora más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13:29Z</dcterms:created>
  <dc:creator> </dc:creator>
  <dc:description/>
  <dc:language>en-US</dc:language>
  <cp:lastModifiedBy> </cp:lastModifiedBy>
  <dcterms:modified xsi:type="dcterms:W3CDTF">2010-09-20T18:45:24Z</dcterms:modified>
  <cp:revision>117</cp:revision>
  <dc:subject/>
  <dc:title>Fotos y transparencias</dc:title>
</cp:coreProperties>
</file>